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D27F7-CB5E-412F-BE88-641B440B6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jax collaboration with dicthy and phenote-lite with kevin at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EB2FD-9FCE-4E8F-829A-A45226C1E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25DDA-1867-4C8A-AB8A-78A219F94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2A1EA-3E23-42A9-BBF6-D916CAB24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5901C-B55D-4AA9-B2CE-5197A5D49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D5A8E-1C66-436E-8A25-F7770DA5F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8F8E8-6524-4275-92C4-D92C3106D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F796E-296D-4798-AD5D-84351EDFF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FC0B1-B903-49D1-8706-8518BA7BE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79EC8-CC67-4DBF-B9A4-645B8811D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8B58C-D856-4F3B-A320-AF20DF1CF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7D61D-836F-4AF1-9516-83EEE3F93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85323-7BE0-4493-BBEB-04D52B34F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CE082-0437-4970-9497-348BA5C81F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ype 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Phenotype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additions</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interf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write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Modifiers: radio buttons</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2"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re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6"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AJAX interface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Requirements</a:t>
            </a:r>
            <a:endParaRPr b="0"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itate Phenote or FX? K-Pla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blades -&gt; Java migratio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lk edit: FX vs bulk copy/edi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nents(ajax) or full web app?</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Q Maker? Character t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parate web page or same pag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 composed? Relational qua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that talks to FB app pro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 m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P - infer phenotypes from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 to OBD (zf &amp; fb) via pheno-x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6):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cent Webby Phenot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reaper.lbl.gov/phenote/html/ncbo.html</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 OBO</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7 release ~August/September (we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8"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Nicole Washington, ShengQiang Shu, Seth John Day-Richter, Nomi Harris</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otype(or taxon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etic context (optional)</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e.g. Anat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7-31T20:48:25Z</dcterms:modified>
  <cp:revision>132</cp:revision>
  <dc:subject/>
  <dc:title>Phenote</dc:title>
</cp:coreProperties>
</file>